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F70F-5909-4143-A313-38F92D3F1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5729-6B34-484B-81D8-2EA030F7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233A-BE01-4BA6-AD68-48CBD7FD5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5B14-FDF9-491A-A603-E393CE94C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52B5-66B7-4303-BBAE-9D3E02387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4A92-E141-40A1-A97F-D349050E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A4EF-836F-4569-A9ED-1F17ABBF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802C-78F0-4210-8CF3-7ED2E751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7999-F5C3-4568-ABE5-100ECA47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5021-8E44-448E-B659-E053C914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5948-FF00-4627-8507-A23AD671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9159-3530-41D4-B43D-C873ACC0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FCA9-B2F1-4FBB-99D8-38333480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6DFE-DC86-4F89-98F1-725F9D4C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9A26-428C-41D0-AD04-85C39B5E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0062-EF24-4A25-A6FB-5317DDE1B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F4E3-D8B3-45C0-AE84-0582C76EC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CE75E-1925-4166-BF6E-01961F203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C878E-D9A9-419F-B933-E54A7218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E201E-34B0-411A-931D-3450695F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3474D-C52A-4FB1-B664-F56D654D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D71F2-6326-4576-971E-D58CF0FF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A8A9-1EB4-46D5-994C-511FA6D5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AF0CC-63F8-40C2-967A-0AB63401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3526B-4085-4105-94E2-C23B621C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9FD70-7A81-4537-A658-04B1A2B4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3EA7D-16D0-4E18-9963-E4355C64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3B570-5787-469C-BF4B-B26850FC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77528-B5FA-4254-AD32-F9CE9A06D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DC6DD-8AAA-4E32-A724-D942081D2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B7AAC-2C3A-4678-85C8-97602DDD8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03A0E-A8B2-490B-8B4A-4482ABCC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E50FF-D012-4353-B8C0-8800E7E4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AD8F-FE13-4B2C-A353-735701A3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10EFE-A30C-4A36-8DE9-76C247D9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366A0-E667-413B-8AC8-02D4210F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8D27A-B403-4E53-9243-6143F7B9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5DFEA-82EA-431A-A60B-319B1B21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587A2-C484-47EB-8323-51D86ABB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4E89B-EA7D-492D-8DEA-FAF7D93C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E46DF-6B65-4174-993C-8D381304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6C8AF-67D6-485C-9D7F-DC0ED7F75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CF121-C3D1-4EF8-B358-5B475A028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0C6F8-565A-4FE3-BD8C-99FD99A19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DE4F-211D-4C1E-BFE5-1C655D75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3505E-EBE7-4043-9512-CF6AF690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D0F1B-2EBE-4595-8DB7-5767764B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38345-4785-49F1-8696-C1D23A07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33A07-A07F-45BC-8D5D-65A02220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4AF71-3520-48AA-B85D-19DDEAB5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15608-59D2-49FC-A519-C72198E0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FDFDC-914E-4635-8B3D-EDE6E773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5644A-DD0C-496F-A5CE-8FD31770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44B0C-C6DB-4BCB-82F3-4E47FEAD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1F15E-506F-4283-BC23-4FAC55251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1C4D-5B74-4ED0-9307-B7EA266D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A451E-04D3-4FE4-A4E8-C99413B56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E7E56-A54D-418C-BC1D-C6DA9D4B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1DA14-228F-40E4-AE1B-4C8331BA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225CB-CA55-4B7A-9E86-4A2F3E8B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916E9-5C0A-45E0-8766-FEB741A7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0E7D5-689E-4344-AC61-233AAB98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B43EF-174F-43AA-8845-E9E6EEF6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F34B2-1D18-4E96-90CD-ACD2CDE3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B58F5-AABD-4628-9514-C8F53D08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93F8B-DD80-45DF-8F14-3F145F25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95EC-8025-4516-AC6A-7C1C5F21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95C26-8EE3-484B-9F54-F5BEA9D6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785A6-22F5-4FA0-ACB8-3A04B877B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D4279-616A-408C-B8D9-8250906CD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EB9D-8F0C-46F5-8287-512543E2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7422-C4FB-4A6D-8755-0C21D81F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6A85-518A-496B-87D5-429C374FC6C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D061-5335-449E-B632-7F454FF7629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3889-5C0F-4F0B-B9DD-A9A1F5DEC88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8A87-3A7D-425F-B3DA-D2CBFA647B6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3B7C-B201-4AA9-B6D3-0632260BC34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001B-D73A-488F-B2DA-41B0ADC5B71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oup 1: Rebecca Johnson &amp; Zoey Ki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3"/>
          <p:cNvSpPr/>
          <p:nvPr/>
        </p:nvSpPr>
        <p:spPr>
          <a:xfrm>
            <a:off x="1905120" y="3352680"/>
            <a:ext cx="5943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9e98e"/>
                </a:solidFill>
                <a:latin typeface="Franklin Gothic Book"/>
              </a:rPr>
              <a:t>Kinetic Energy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e98e"/>
                </a:solidFill>
                <a:latin typeface="Times New Roman"/>
                <a:ea typeface="Times New Roman"/>
              </a:rPr>
              <a:t>Definition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inetic energy-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4d2d0"/>
                </a:solidFill>
                <a:latin typeface="Arial"/>
              </a:rPr>
              <a:t>Energy that an object has because of its mo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inetic theory-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4d2d0"/>
                </a:solidFill>
                <a:latin typeface="Arial"/>
              </a:rPr>
              <a:t>All matter has tiny particles that are in constant mo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e98e"/>
                </a:solidFill>
                <a:latin typeface="Times New Roman"/>
                <a:ea typeface="Times New Roman"/>
              </a:rPr>
              <a:t>Objectives #1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plain why term “kinetic” makes sense when speaking about particle behavi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4d2d0"/>
                </a:solidFill>
                <a:latin typeface="Arial"/>
              </a:rPr>
              <a:t>Kinetic energy is the energy an object holds because of its movement and particles are always mov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e98e"/>
                </a:solidFill>
                <a:latin typeface="Times New Roman"/>
                <a:ea typeface="Times New Roman"/>
              </a:rPr>
              <a:t>Objectives #2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 does a gas behave according to the kinetic molecular theory (KMT)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4d2d0"/>
                </a:solidFill>
                <a:latin typeface="Arial"/>
              </a:rPr>
              <a:t>Particles in a gas are small, hard spheres with insignificant volu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4d2d0"/>
                </a:solidFill>
                <a:latin typeface="Arial"/>
              </a:rPr>
              <a:t>Motion of particles in a gas is rapid, constant, and random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4d2d0"/>
                </a:solidFill>
                <a:latin typeface="Arial"/>
              </a:rPr>
              <a:t>Collisions between particles in a gas are elasti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e98e"/>
                </a:solidFill>
                <a:latin typeface="Times New Roman"/>
                <a:ea typeface="Times New Roman"/>
              </a:rPr>
              <a:t>Objective #3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y is the motion of one particle independent of another particle in a gas sampl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4d2d0"/>
                </a:solidFill>
                <a:latin typeface="Arial"/>
              </a:rPr>
              <a:t>Particles of a gas are relatively far apart, so no attractive or repulsive forces exist between partic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e98e"/>
                </a:solidFill>
                <a:latin typeface="Times New Roman"/>
                <a:ea typeface="Times New Roman"/>
              </a:rPr>
              <a:t>Objective #4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lastic collision-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4d2d0"/>
                </a:solidFill>
                <a:latin typeface="Arial"/>
              </a:rPr>
              <a:t>Collision in which kinetic energy is transferred without loss from one particle to another, and the total kinetic energy remains consta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7:41:50Z</dcterms:created>
  <dc:creator>13wkim</dc:creator>
  <dc:description/>
  <dc:language>en-US</dc:language>
  <cp:lastModifiedBy>udsd</cp:lastModifiedBy>
  <dcterms:modified xsi:type="dcterms:W3CDTF">2012-04-26T17:44:35Z</dcterms:modified>
  <cp:revision>6</cp:revision>
  <dc:subject/>
  <dc:title>Kinetic Theory </dc:title>
</cp:coreProperties>
</file>